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518B4-FD59-4020-98A3-733555CC40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5280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75615-54A5-44D4-9614-9581CB20BE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280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5280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3BC03-27FB-446E-9F7E-FE3FC96448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5280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5280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5280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444ED-6729-42D6-B6EA-A9920E5A62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6E81C-A06E-4BAF-B0D2-AE77A892A98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6050A-CBB3-47CE-B69D-768BF8A8E3A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A6458-D85B-4CFF-B10D-67A55BAE75C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CB8F4-0D2C-4469-A214-0494D0AD001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E0D52-4C61-48A1-8B1C-BA17E56AC80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04920"/>
            <a:ext cx="8229600" cy="77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0134D-EBDD-45A8-9F2F-6660E216BD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5280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BD56C-9BB9-472B-B2FA-8F929AEDB0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63ADA-CF35-41EC-A8B0-1CC3328412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5280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AA92B-D75F-4E14-B79D-4641913BE91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5280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D9B52-E87D-4CA7-ACC2-5FF90F19686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5280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090C8-B596-4E69-9421-75C7D7E43BB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5280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5280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9285D-146D-485F-850B-B34CCC92F94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5280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5280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5280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9D2B2-9A8D-4C01-B73D-5EA239BF5C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3D60E-EB2F-4771-B1F0-E18AB795DD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B1BFD-BB68-4036-B104-6F95AE3DA4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629B0-CDBF-46C2-92F0-8063D8B612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304920"/>
            <a:ext cx="8229600" cy="77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A8FF0-E30E-435C-8994-310580B288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5280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D49C5-000B-4465-970B-216FA17949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5280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6544D-D2E2-4E58-81B6-70E0858A0F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5280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C556D-B09C-4D2C-B492-7A7F350F8E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459200" y="6388200"/>
            <a:ext cx="31932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  <a:ea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6E58B-40D4-40DC-8566-CA385D4001E3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7d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9999cc"/>
              </a:buClr>
              <a:buSzPct val="69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0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3" name=""/>
              <p:cNvSpPr/>
              <p:nvPr/>
            </p:nvSpPr>
            <p:spPr>
              <a:xfrm>
                <a:off x="573120" y="3582720"/>
                <a:ext cx="576360" cy="6415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141560" y="3582720"/>
                <a:ext cx="583920" cy="6415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sldNum" idx="2"/>
          </p:nvPr>
        </p:nvSpPr>
        <p:spPr>
          <a:xfrm>
            <a:off x="7459200" y="6388200"/>
            <a:ext cx="31932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  <a:ea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91ED0-159D-4F0F-9B8A-8DB2CA5B1D95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2971800" y="1600200"/>
            <a:ext cx="6019920" cy="2666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body"/>
          </p:nvPr>
        </p:nvSpPr>
        <p:spPr>
          <a:xfrm>
            <a:off x="2971800" y="4266720"/>
            <a:ext cx="6019920" cy="2590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58000"/>
          </a:bodyPr>
          <a:p>
            <a:pPr marL="226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22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22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22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2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2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2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his.ebscohost.com.ez-proxy.brooklyn.cuny.edu:2048/ehost/detail?sid=3bdcd655-4395-4aee-9065-e77bc5ff288e@sessionmgr4&amp;vid=1&amp;hid=3&amp;bdata=JnNpdGU9ZWhvc3QtbGl2ZQ==" TargetMode="External"/><Relationship Id="rId2" Type="http://schemas.openxmlformats.org/officeDocument/2006/relationships/hyperlink" Target="http://ehis.ebscohost.com.ez-proxy.brooklyn.cuny.edu:2048/ehost/detail?sid=8b90dfbe-3df9-4919-a310-b1b12889ed74@sessionmgr112&amp;vid=1&amp;hid=124&amp;bdata=JnNpdGU9ZWhvc3QtbGl2ZQ==" TargetMode="External"/><Relationship Id="rId3" Type="http://schemas.openxmlformats.org/officeDocument/2006/relationships/hyperlink" Target="http://www.highbeam.com/doc/1G1-155041084.html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7459200" y="6388200"/>
            <a:ext cx="31932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96033-5502-4C67-A257-793450A07165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5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5664240" y="4622760"/>
            <a:ext cx="360684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8d"/>
                </a:solidFill>
                <a:latin typeface="American Typewriter"/>
                <a:ea typeface="American Typewriter"/>
              </a:rPr>
              <a:t>Lauren P. Bur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8d"/>
                </a:solidFill>
                <a:latin typeface="American Typewriter"/>
                <a:ea typeface="American Typewriter"/>
              </a:rPr>
              <a:t>CBSE 7201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8d"/>
                </a:solidFill>
                <a:latin typeface="American Typewriter"/>
                <a:ea typeface="American Typewriter"/>
              </a:rPr>
              <a:t>Seminar in Applied Theory and Research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8d"/>
                </a:solidFill>
                <a:latin typeface="American Typewriter"/>
                <a:ea typeface="American Typewriter"/>
              </a:rPr>
              <a:t>Fall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660240"/>
            <a:ext cx="91821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8d"/>
                </a:solidFill>
                <a:latin typeface="American Typewriter"/>
                <a:ea typeface="American Typewriter"/>
              </a:rPr>
              <a:t>Homework Support for Twice-Exceptional Student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254160"/>
            <a:ext cx="96012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6600cc"/>
                </a:solidFill>
                <a:uFillTx/>
                <a:latin typeface="American Typewriter"/>
                <a:ea typeface="American Typewriter"/>
              </a:rPr>
              <a:t>Statement of the Proble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1612800"/>
            <a:ext cx="8229600" cy="18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rporating a time management graphic organizer as a cover page on weekly homework packets will motivate six elementary students for four weeks at a twice exceptional, private, K-8 school in Battery Park, New York to complete homework accurately and submit homework on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000680" y="3200400"/>
            <a:ext cx="4649760" cy="35942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60240" y="5054760"/>
            <a:ext cx="341640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*Assignment pages with BLANK weekly calendars are current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724280" y="2755800"/>
            <a:ext cx="3873600" cy="3873600"/>
          </a:xfrm>
          <a:prstGeom prst="rect">
            <a:avLst/>
          </a:prstGeom>
          <a:ln w="0">
            <a:noFill/>
          </a:ln>
        </p:spPr>
      </p:pic>
      <p:grpSp>
        <p:nvGrpSpPr>
          <p:cNvPr id="121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2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9800" y="1625760"/>
            <a:ext cx="81914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of a time management graphic organizer as a cover page on weekly homework packets, implemented once per week over a four week period will increase homework accuracy and timeli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6600cc"/>
                </a:solidFill>
                <a:uFillTx/>
                <a:latin typeface="American Typewriter"/>
                <a:ea typeface="American Typewriter"/>
              </a:rPr>
              <a:t>Research Hypothes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71680" y="2502000"/>
            <a:ext cx="2984400" cy="39621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724280" y="1562040"/>
            <a:ext cx="3735360" cy="4851360"/>
          </a:xfrm>
          <a:prstGeom prst="rect">
            <a:avLst/>
          </a:prstGeom>
          <a:ln w="0">
            <a:noFill/>
          </a:ln>
        </p:spPr>
      </p:pic>
      <p:grpSp>
        <p:nvGrpSpPr>
          <p:cNvPr id="135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6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6600cc"/>
                </a:solidFill>
                <a:uFillTx/>
                <a:latin typeface="American Typewriter"/>
                <a:ea typeface="American Typewriter"/>
              </a:rPr>
              <a:t>Gifted &amp; Talent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9800" y="1625760"/>
            <a:ext cx="398808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ngths-based, hands-on and individualized acade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68280" y="1289160"/>
            <a:ext cx="3784680" cy="49212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270400" y="1523880"/>
            <a:ext cx="2946600" cy="3810240"/>
          </a:xfrm>
          <a:prstGeom prst="rect">
            <a:avLst/>
          </a:prstGeom>
          <a:ln w="0">
            <a:noFill/>
          </a:ln>
        </p:spPr>
      </p:pic>
      <p:grpSp>
        <p:nvGrpSpPr>
          <p:cNvPr id="149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0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6600cc"/>
                </a:solidFill>
                <a:uFillTx/>
                <a:latin typeface="American Typewriter"/>
                <a:ea typeface="American Typewriter"/>
              </a:rPr>
              <a:t>Learning Disabl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95680" y="5473800"/>
            <a:ext cx="4241880" cy="11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d routines, repetition, sensory simplicity and graphic organiz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838080" y="2246400"/>
            <a:ext cx="6377040" cy="4432320"/>
          </a:xfrm>
          <a:prstGeom prst="rect">
            <a:avLst/>
          </a:prstGeom>
          <a:ln w="0">
            <a:noFill/>
          </a:ln>
        </p:spPr>
      </p:pic>
      <p:grpSp>
        <p:nvGrpSpPr>
          <p:cNvPr id="16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6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6600cc"/>
                </a:solidFill>
                <a:uFillTx/>
                <a:latin typeface="American Typewriter"/>
                <a:ea typeface="American Typewriter"/>
              </a:rPr>
              <a:t>Executive Function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4160" y="1549440"/>
            <a:ext cx="822960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geting lagging cognitive skills with goal setting and metacognitive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75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39680" y="296640"/>
            <a:ext cx="7647120" cy="9982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600cc"/>
                </a:solidFill>
                <a:uFillTx/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82320"/>
            <a:ext cx="8344080" cy="5435640"/>
          </a:xfrm>
          <a:prstGeom prst="rect">
            <a:avLst/>
          </a:prstGeom>
          <a:noFill/>
          <a:ln w="0">
            <a:noFill/>
          </a:ln>
        </p:spPr>
        <p:txBody>
          <a:bodyPr lIns="50760" rIns="0" tIns="50760" bIns="50760" anchor="t">
            <a:normAutofit fontScale="80000"/>
          </a:bodyPr>
          <a:p>
            <a:pPr marL="487440" indent="0">
              <a:lnSpc>
                <a:spcPct val="1000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end, E., Schuler, P., Beaver-Gavin, K., &amp; Beights, R. D. (2009). A unique challenge: Sorting out the difference between giftedness and asperger's disorder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Gifted child toda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3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), 57-6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87440" indent="0">
              <a:lnSpc>
                <a:spcPct val="1000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87440" indent="0">
              <a:lnSpc>
                <a:spcPct val="1000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onymous. (2006). Strategies that work for twice-exceptional students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Gifted child toda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29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, 200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87440" indent="0">
              <a:lnSpc>
                <a:spcPct val="1000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87440" indent="0">
              <a:lnSpc>
                <a:spcPct val="1000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um, S., Cooper, C., &amp; Neu, T. (2001). Dual differentiation: An approach for meeting the curricular needs of gifted students with learning disabilities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Psychology in the scho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3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), 477-49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87440" indent="0">
              <a:lnSpc>
                <a:spcPct val="1000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87440" indent="0">
              <a:lnSpc>
                <a:spcPct val="1000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ey Nicpon, M., Allmon, A., Sieck, B., &amp; Stinson, R. D. (2011). Empirical investigation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87440" indent="0">
              <a:lnSpc>
                <a:spcPct val="1000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ice-exceptionality: Where have we been and where are we going?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Gifted Child Quarte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5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, 3-17. Retrieved from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http://ehis.ebscohost.com.ez-proxy.brooklyn.cuny.edu:2048/ehost/detail?sid=3bdcd655-4395-4aee-9065-e77bc5ff288e@sessionmgr4&amp;vid=1&amp;hid=3&amp;bdata=JnNpdGU9ZWhvc3QtbGl2ZQ=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87440" indent="0">
              <a:lnSpc>
                <a:spcPct val="1000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87440" indent="0">
              <a:lnSpc>
                <a:spcPct val="1000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lger, J. W., &amp; Hynd, G. W. (2008). Neurodevelopmental variation as a framework for thin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87440" indent="0">
              <a:lnSpc>
                <a:spcPct val="1000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out the twice exceptional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Roeper revi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3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), 214-228. Retrieved from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http://ehis.ebscohost.com.ez-proxy.brooklyn.cuny.edu:2048/ehost/detail?sid=8b90dfbe-3df9-4919-a310-b1b12889ed74@sessionmgr112&amp;vid=1&amp;hid=124&amp;bdata=JnNpdGU9ZWhvc3QtbGl2ZQ=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87440" indent="0">
              <a:lnSpc>
                <a:spcPct val="1000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87440" indent="0">
              <a:lnSpc>
                <a:spcPct val="1000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weler, S., Barnes-Robinson, L., Shevitz, B., &amp; Weinfeld, R. D. (2008). Bordering on excellence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Gifted child toda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3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, 40-4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87440" indent="0">
              <a:lnSpc>
                <a:spcPct val="1000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87440" indent="0">
              <a:lnSpc>
                <a:spcPct val="1000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wandowski, L. (2009). Gifted students with learning disabilities: Who are they?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Journal of learning disabilit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39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6), 515 -27. Retrieved from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http://www.highbeam.com/doc/1G1-155041084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87440" indent="0">
              <a:lnSpc>
                <a:spcPct val="1000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87440" indent="0">
              <a:lnSpc>
                <a:spcPct val="1000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on, S., Swift, M., &amp; Shallenberger, A. (2002). Perceptions of a self-contained class for fourth and fifth-grade students with high to extreme levels of intellectual giftedness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Gifted child quarte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4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6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87440" indent="0">
              <a:lnSpc>
                <a:spcPct val="1000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87440" indent="0">
              <a:lnSpc>
                <a:spcPct val="1000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inson, W., &amp; Campbell, J. (2010)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Effective teaching in gifted education: Using a whole school approa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New York: Routledge. Retrieved from http://www.routledge.com/books/details/9780415493468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87440" indent="0">
              <a:lnSpc>
                <a:spcPct val="1000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87440" indent="0">
              <a:lnSpc>
                <a:spcPct val="1000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dian, B., &amp; Hülsken, C. (2005). The developmental relation of theory of mind and executive functions: A study of advanced theory of mind abilities in children with adhd. In W. Schneider, R. Schumann-Hengsteler &amp; B. Sodian (Eds.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Young children's cognitive development: Interrelationships among executive functioning, working memory, verbal ability, and theory of mi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pp. 175-187). Mahwah, NJ: Lawrence Erlbaum Associates, Publis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87440" indent="0">
              <a:lnSpc>
                <a:spcPct val="1000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87440" indent="0">
              <a:lnSpc>
                <a:spcPct val="1000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rell, F., Gabelko, N., Roth, D., &amp; Samuels, L. (1999). Parents' reports on homework amount and problems in academically talented elementary students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Gifted child quarte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4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8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87440" indent="0">
              <a:lnSpc>
                <a:spcPct val="1000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87440" indent="0">
              <a:lnSpc>
                <a:spcPct val="1000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ssel, N., Prater, M., &amp; Smith, D. (2010). How can such a smart kid not get it? finding the right fit for twice-exceptional students in our schools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Gifted child toda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3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, 55-6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87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39680" y="296640"/>
            <a:ext cx="7647120" cy="9982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600cc"/>
                </a:solidFill>
                <a:uFillTx/>
                <a:latin typeface="Arial"/>
              </a:rPr>
              <a:t>References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82320"/>
            <a:ext cx="8344080" cy="5435640"/>
          </a:xfrm>
          <a:prstGeom prst="rect">
            <a:avLst/>
          </a:prstGeom>
          <a:noFill/>
          <a:ln w="0">
            <a:noFill/>
          </a:ln>
        </p:spPr>
        <p:txBody>
          <a:bodyPr lIns="50760" rIns="0" tIns="50760" bIns="50760" anchor="t">
            <a:norm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dian, B., &amp; Hülsken, C. (2005). The developmental relation of theory of mind and executive functions: A study of advanced theory of mind abilities in children with adhd. In W. Schneider, R. Schumann-Hengsteler &amp; B. Sodian (Eds.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Young children's cognitive development: Interrelationships among executive functioning, working memory, verbal ability, and theory of mi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pp. 175-187). Mahwah, NJ: Lawrence Erlbaum Associates, Publis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rell, F., Gabelko, N., Roth, D., &amp; Samuels, L. (1999). Parents' reports on homework amount and problems in academically talented elementary students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Gifted child quarte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4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8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ssel, N., Prater, M., &amp; Smith, D. (2010). How can such a smart kid not get it? finding the right fit for twice-exceptional students in our schools.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Gifted child toda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3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, 55-6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ill Ramakkan</dc:creator>
  <dc:description/>
  <dc:language>en-US</dc:language>
  <cp:lastModifiedBy/>
  <cp:revision>0</cp:revision>
  <dc:subject/>
  <dc:title>Helping Our ELL Students Succeed: Finding the Right Setting</dc:title>
</cp:coreProperties>
</file>